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5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.jpeg" ContentType="image/jpeg"/>
  <Override PartName="/ppt/media/image5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F92-DAFB-47E1-A18F-5F2B4F6308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CBC-AB6A-4CE5-84A5-BD6E8876AB5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29A-9C2D-4240-851B-2C40AE2383F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4B70-BD6C-4C49-BA8D-902A3FE01BB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1CBA-3E04-4642-BA81-31E3D489BB2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F576-A00C-46E3-88F2-7C4767C4D739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RL setting and consumer risk assessment for all uses resulting in residues in food or f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F99B-5112-4188-BEE1-CE9133D62550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1CB3-1E01-44BE-8FD8-057039CE1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6792-6FB3-4BD7-9C2D-185167D262A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28A57-6EA2-4B35-9450-38C7840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ABC9F-04C5-4CF4-BFB3-0A05420A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76DF4-F0EA-4952-B64B-499D485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607B2-CAF0-42B1-8623-F314CE0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03EEF-563E-41C2-A81C-7E5D72B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872D7-ACB6-4C7A-AE20-81C84B9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7AAB7-8F01-4EE3-9346-9966E5C0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C2B1B-F3F8-4E81-B39A-C80E3C0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4D140-B240-4C01-BDB0-DFF21FF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EDBF5-7FA0-402C-8555-DE76B9D2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EF86-3437-42DE-97C2-EE505CFCA2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74C19-5204-477A-B90C-6C0CB38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D3DA75-35E5-48CF-B0C3-32CA1BF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27BB9-92C3-45D1-9046-DC07E56D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D847C-506C-4E9E-AB55-94BA479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FC5F06-D0C7-4EAF-9633-D930EC52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0AECF-9A26-4BB8-9BAA-9D3F534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BE9DDA-D2B6-410D-ABF5-0442CEC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D26E7-60D8-4EB3-84A9-C963B21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162BC-938F-421E-8093-0B5B802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4E934-0F28-42F7-B347-E999ECF7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6424-8773-4CBD-8CF1-DF9615F12A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AC294-BED9-43E3-B51B-54AC3F5B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2E562-4314-4FEB-9E6B-AB580429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9854F-F9EB-4686-A7A6-2E8431D3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B89B7-4CC1-4C2B-9061-6D92435C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38630C-2DC7-4A3D-BC48-461ED5E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13AE0-68B9-4A26-B9E3-0A83B73D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8A8F99-2AC9-485E-B5C7-DB5D1E71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18A2D-1005-4C4F-BFC5-14AB50C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6B9EE-754E-4D7B-B9FE-10B0559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6196D-D849-4AFC-AA10-CAFB49F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7943F-EB59-447C-ABEC-E507FD75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A6500-826E-4B58-A849-29D3C71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4947D-0DF2-42FD-ABB2-F0DE4387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F18B8-C5A6-44AA-8F5D-70EE318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E9580D-99AD-4566-90D5-64CB0EEB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7F4D88-68B4-4DC2-9B21-D5633B0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B6FAF-9E45-4E89-80C9-5ED4216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61962-2AF2-4C0A-860B-6471ECEE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381DE-AB3C-44AA-AFB9-402D6F0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8FC6D-12BF-4FD3-877B-E6254BD9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7076C-254E-4D8E-8F51-B6FBDCE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A3E5-9F98-4604-BF28-221E35C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E6C53-9B22-4D50-BD94-BC7567C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68B1B-A62E-40A4-87B1-AA064C7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9B2936-950E-4555-80F4-4D07BBDC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5BFF7B-5363-454B-AA12-555DE81E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C7217-AC08-4A0E-8B75-6C00F8C6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87D78F-ACAD-4644-A70D-4E675D2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8F5E29-9479-4FDE-A082-D6FFB5E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DC91C4-ACAC-4039-91AA-E657778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13DFBA-ED3B-4290-8BD6-15415BC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36BF70-8DD5-4FDE-BF51-25397854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BD26-EBD9-4609-BF94-25C5DEB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405B21-1282-43C1-9326-93E22CB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566356-2E06-48EB-BB7A-5D50554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1978E3-353A-4434-A5FC-63A9BBF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9B5EB-D4C6-4FC9-A359-A167432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1EEE4E-B324-4C59-BA63-047D4E5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CECBD8-B424-4D7E-B966-53B4FA94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945AAB-77C6-47E0-A6C6-C8EF746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465914-9491-4ED8-80B8-42B3529D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9EA322-3FCE-40D6-880C-F2A462F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E9C7AE-AE78-4869-9CFC-D83E832C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502C-5C57-4B2E-95CA-7DB94AE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5E965F-B47E-4B36-9FC6-F67FD93D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15F1EF-4F60-4FA1-B94B-36E6FEB8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2B1ED4-F9BE-4183-A089-AAEC01C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2F5BAE-98CB-4EB0-86C2-8191D53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D70DBC-E114-4B87-B162-5CDF491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737B53-8B31-49B3-B3DE-28FD7DC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948A3-4BB9-40A8-B92B-6EA06C7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015347-5486-4BEA-A848-0C5291FF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30E792-9DFD-4406-A5D4-1B76A931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3DF95-5F3C-4BA2-8F28-1BCAE3DF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F2E9F-F282-47ED-B857-0667E8F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7F254-5CC5-4C88-B0C5-D66B170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68451-14F5-4B92-8580-EDF8A73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37C898-38EC-4CBE-BD57-347DADA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E8415-03FE-42B6-ABE3-C2AAB3E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B7B4E-C0B1-4592-A689-D195DFFF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B19730-85B4-43A0-8E0C-A05920B0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6DE0B-5596-4F99-AEA5-CC87174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9EC7F-8567-4B58-BC22-0EEC98D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16F893-C420-4DCA-88B6-38469F5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8E115B-8C0B-4EE5-8CDE-B1967A2F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38AE-146C-4881-A6E8-64861BE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6DF38-2A11-4EE0-9D0A-8D8A78FE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F2C744-DCB7-4031-99D3-DB4D5BA0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4D7D88-3124-4975-B265-D1CE20A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D710E4-FA08-4D48-B59C-261D0AB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084326-706C-4F07-B5A7-E4ABC73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6AD861-42E3-436F-82FE-80F1146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2516CF-FED6-4AF8-AF13-E093ADE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2711D9-8C8A-49AB-8F31-16952C8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89C617-C5E2-4798-BAF1-DD4AE42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5D7F5A-E7EF-41AE-9A99-9199A4A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A0D3-22F3-4056-A0B9-E5CACF7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E019AF-B492-4D1B-AED5-9558716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9729D7-6349-43E2-94DC-C0B6A4B8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4CE040-9BF3-465C-9CD8-39DDB690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E41317-096A-4ACB-A0D7-FC601CE4F9B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052103-A9F7-440E-B38B-F40163BAAED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543C6A-9C73-43C6-B834-4F8193DC704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533B68-93AD-4A03-BBD9-654A06C21E6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55EAF0-05DD-459C-9DBF-D9B75069595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8C25FD-FC97-4D11-B98F-7BA19317F3C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163C71-3C84-4719-901F-BFA871891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4D83-323A-4B7C-920C-33AAC5898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F562-DA7E-4865-BAA2-B88D951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ACFFAF-90B8-4636-9E40-E1449A19B5F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BEF5BD-585C-4D3D-A997-C40A0422048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7A4D04-2F4A-4BCF-A359-B4125E01E0E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40B80B-6A0C-4D56-A1F6-EFD2CFBB7C7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A9C1BD-7FD4-41BD-948D-3454808A15B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AFB961-777B-48D5-A342-B8BB92E9720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7CA38E-DACB-4C4C-89FE-9217035595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1F145A-6889-42B8-81AA-83617E034EA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248B3D-9D36-4CC8-B311-EBE8B088A17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ACD648-3AAA-443A-A00D-1123F6D61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F2C0-A846-4A43-A45B-49ED889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C0D7F-1D7D-4C45-A0DA-81FBAB619C9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96E395-3EE9-4911-A8B9-FB905415FF5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5B701F-4DD0-4417-A190-78B8919AA4B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A0A9BF-5430-4D0D-9735-5646E3F8FBC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ED0798-8DC3-41DB-BEE9-48C39EA7706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9AA5DA-7C0A-47B3-BA40-BF018467FD2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87E01F-4295-43DD-9BA8-4D505547D5A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6251C1-5362-493B-A8A1-CF34E90E973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EDC4B6-7FF2-4C13-B1BD-62BA7EB351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0A7ED6-4AE0-4DC3-8FE0-A9609143E1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12E05-1D4F-4EF5-9634-16A8DF3E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DBEEE3-0F4C-4029-947F-5A1FCA67E1F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EAF248-72C8-4054-A43C-0331663B99B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E88598-F718-4F9A-94F2-6FBC802164C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E9D94D-1EFD-4F2B-BC4C-ABE1C0626AB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DA6AC7-275A-4151-A8BB-A378AA49B04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FFA22C-D3C8-4CC0-96F6-4280A3C4405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0198C17-DB8A-4E5F-BEC1-8DE5B013744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1D8F7F-EA83-4718-B083-C5DB1DB4E57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D3864E-724B-4F2D-AF84-048DB25601E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3B8A82-8B3A-4198-AE2C-8B8FC60B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20F57-039E-4B25-A079-29FA46F0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9D712C-B74D-4BA6-821F-E2DDC39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1D1004-834D-4F5A-9B06-7782585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02E3AA-EA38-401B-97A0-FEC8CAE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5D24DB-A7B1-47BD-B1E6-2FFD103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EF1074-6F7A-4103-9642-7CC0138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A3D452-1959-4C3D-8B5B-22696AA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1777AF-B66C-47FE-B9C7-EF031B3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401C39-36FD-462E-BFB7-572F8E8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455FCB-82E8-4CED-BD37-9117845C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6DA341-0F23-43ED-9D5B-9CB3AE46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24F3-1588-4A2A-BDC2-0914A72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DF2118-B042-42F7-B1A3-75A2AA6E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B09AA7-60C7-43F5-866D-A0ADECC6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CD209F-EAA5-41BC-8686-8F69B026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26D150-3722-49BC-AB72-C1F829C3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A58DB5-9FE9-482C-B53B-B3EC4FC7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95A8BC-6ACB-4976-8CB1-290F43C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2009B0-9000-4F0F-96AE-D887F75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B28C39-A2FC-4852-88F7-50FC28F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D250D4-1440-484D-BDD8-8213AF9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1A7A62-E0B0-4768-87D4-228A45E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2FD5D-0349-43B9-ADC7-D4C170CA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3EAE25-CD3F-4BEC-B8D6-929F81E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ECFF3D-A128-4F52-8FA0-122FBD56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D6DD31-1D89-4E94-B458-1132C4BB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61ED1A-29DE-419B-A805-CDBE8B8D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0D07D3-062B-4495-A821-C9E1BB3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B519D7-7B35-4EDE-B5D3-E72AC79C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EA02AA-5D03-492A-92CE-EC82B30C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B77ECE-3B03-416D-8E7E-D5BF3FD4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2B0DC3-A686-46F4-B382-AF87DB0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AE636F-C89D-4D85-B7A4-1B3F90A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64144-2D55-441A-BFF3-98790C31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9677DF-5140-40EC-8950-2494803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881603-4343-4628-B97D-25B5429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D79BB4-80C8-4B44-95F1-BC21A07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F6EA6D-8DC9-464E-99D1-F589EA52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9137D8-7A20-493B-8BFE-54FE65DA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427E7D-FEF0-4B69-8099-FF0AC0CA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5F383A-75F2-46F5-9564-FB4681B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CB2421-D456-471F-8BE6-157DFAAF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62F3A2-9E36-404C-BBA4-D0D1689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4B83C1-88CC-49BA-AC31-FDBB4961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EDE08-9B1C-4779-8B8F-4AF9D46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750032-5434-4498-8164-FF20FB2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A2AAEA-71C2-4B13-BB2D-D87F2FF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59BC0E-1B5D-43C3-AC5E-314F62A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01B39C-1B98-4647-83DA-36705C1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2AC052-1C23-4FA3-8E2E-45908AF4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CBFE04-760E-4752-A117-286C79BB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32D2D6-67FD-4210-892C-507CF02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F89B95-29A7-4DC3-82E9-7CD57333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F2E97B-6547-45D0-A8D5-1F7E06A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AF4998-B3F6-42B0-91A0-6CEA812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B4499-827F-49D4-B4ED-DB3806F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CEA08A-17A8-48B7-AB63-125CC03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2F4542F-D95F-40A8-9DC8-76B2A71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2BC03D-FC21-48D8-BA96-78142A7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59D6F0-4B68-4859-AB7E-BF67B60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E8DE13-9F92-4BE5-A3A4-C10437C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0BAB14-8B17-4BE9-8965-BC4EF9E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A2F2A1-2AB5-42DD-9B6C-BE16350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B3C81D-9FC9-4613-A913-9AF5E908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BE50BD-4219-4827-B1C8-D9BBF07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859EED-A74D-4667-98DF-E8BAF6A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124C5-34F2-4DCE-A565-C32C7BE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874C29-4F57-4241-85E0-78B5431B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DAEADD-BD47-4E30-AD94-E420224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1AE224-5EB7-4A70-BD85-C0316AAA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4646F7-1A78-4B5B-9797-E93E1BF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FC23CA-CF96-4B88-9E7C-3FC6709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C7706F-7146-4C39-9832-330F8B2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C22CE8-B5A2-4B5C-892E-7ECF0F9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1F6006-612B-4FFB-8DB5-89FA58B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63A447-AF76-4D3F-A5BF-48696CA7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ED7BBE-4D44-472E-B73D-E26D8D53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CD15-B7E1-43CF-8718-BCD3BED89A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17C26-5054-4E5C-9783-8C9B8A7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57DC1C-E700-4170-974D-A6A30CA5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39126F-7591-4C15-A062-BB1B50C6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ECAA9E-D278-42E9-8963-169F651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62308C-36C8-4EFA-A7B2-FCFE9103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BCB8D2F-6558-4913-9743-F0E9A4F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7314CC-22FC-4412-89E0-E98970B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4794A2-B67E-4753-86F0-A307A385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DB9ADC-B2DB-4CEA-A1B7-216B358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A28918-A8AC-444C-9EC5-7942B656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A9741D-54F4-45BB-90F0-EDDB84A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759EE-E9B7-4D53-8908-DEA3CAE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0FCD06-0166-47C2-B15C-B631851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5C86E9-D036-464C-82A2-024684CC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BFF5B8-F7C3-4C00-A024-2EB7DB2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2D5671-1CE5-4A98-AA2E-552CD5C0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448B3E-02AB-425B-A50D-50DAFC38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A31E17-EDEC-42EF-BF12-C8AE6331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3E5877-0EA5-4B9F-85A4-C123E3F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D401BE-77B8-4070-AC06-A9687BC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5921BB2-8ED3-47DB-8BA7-8BDAC8A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39B029-6F27-4AB4-B17F-C5F517F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ADC65-C7A6-44F1-8C08-87DDD32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8475CE-D2A9-470D-A424-293E8D4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B4A63A-BECC-4858-A94E-E04EA219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4DBE74-9936-4DE7-AC27-B5B8DDC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F2C005-7C63-4424-A74F-DF0B599B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91B01B-6C67-4D2D-8B3E-920A42BE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5ABB82-AED8-4E06-9EC0-4FE081AF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7DDD95-C5C7-4683-A965-BA86035E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3AA44AB-90D2-4680-9DFE-31A0E98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641DFCB-F42A-44C7-9D87-001E512C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029D65-284A-4D4A-981B-A9E30A17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BC7A4-5917-46C2-9309-6DD5F6C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BD9BDA-94CF-48E2-8D25-B43B63AD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351836-57C3-4701-AECB-98285DE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EE0E89-3DD2-4B26-B174-C3BD622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875FE8-0007-4A9C-BF58-633801A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6EA626-F3F9-4BAD-A1FD-4FCA898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681F12-42D5-4F6B-90A5-85EE7A1B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405332-73CD-45E5-9AD4-4FFC4117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838099-D908-4C58-9AA8-90CE7C9C097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449B23-7C01-4D7C-A1B0-EA46B07945C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D9C834-C5F2-4B33-B898-4E33443D42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C0985-3D9D-4C06-A3F8-0D2778B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5617F2-61CC-4AE8-9391-A07BE12A3F3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C61E9-E200-4166-823A-56E1673E9CA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D1D337-4D16-48EE-A65E-7AC58D4024B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1D2ACF-E442-4997-AD4D-65A2CD3C3C9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1D2690-2395-418E-9D14-D9779FBA8D9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262CE8-3556-4941-8D05-71174EC4371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6A8840-F7F1-4B39-B070-8B2B0DF96A0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74DF26-AEE0-49A1-AFB2-226D7799161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49981-3BFE-4AF9-8F35-8B9F6AFE45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7440D-DB4D-4EC4-B2BA-7C536711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6A15C-A33B-4B2D-BE1A-6BA7D884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6A59-A3B0-4A8B-8EC6-8884D1DCCE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3A26-19D2-468E-A173-C1655D9DA3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8F04-95CB-4D7A-8BDB-80D2FEE3B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3F15-742C-476F-92D0-F434E6E282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5473-DBCD-4999-9B2C-30912C6600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D7BA-A442-4BF1-A6E6-23BF381DA5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3093-B5AF-44F6-90BE-FE528345C3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5757-2DFB-44BE-AAED-D0983186CF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58E4-839C-4D4E-B273-AC156EFC1C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9E2A-56AE-4B8E-91B0-D648D3E273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89AC-2633-4E25-B4F1-FAC6D9021E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F876-0934-4FC1-9E59-8B76B7D50A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1EC4-5C59-4A14-8CE1-77A94C21D5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2647-FA71-40C4-ACC6-8B78378BBC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DEB1-F880-49F7-989B-7FC1D3AE98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A6CF-8EAA-47DF-B449-BDEE3576AE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E8F0-072E-46B9-B0EA-B6F493A3F0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8333-BD16-4EAC-A8BD-0D1C029E9E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515E-2EB5-4D9C-A137-F9C12523E0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E4F5-A52B-4E06-A8F7-DC25C827B8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9D98-06C0-43E6-B595-FD96555AB6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D1A4-C465-4B58-A3C0-3C8532078F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2303-087F-4715-A129-F33247C43B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37B6-BBBA-4AE3-A809-50ED3234F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C60F-A614-4E7F-9BB9-F525060B3B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4572-CD92-4FE8-873E-F3B5C22560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6DC1-B49B-4AC5-B750-D6DA11CC36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F976-3C9B-4E79-9E57-F286B38F0F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650DD-09F0-4ED7-A22D-046CC49BFB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DFCCB-3443-4960-A4A9-3B81DCD775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40EA9-1C14-47E8-8D60-D78021DF3B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13FFA-F559-4A26-84D2-0C60A1FA85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53878-531B-47A9-B5E3-DA4E37C062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CE54F-1896-4F46-9483-7404A6DDA2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E9799-9715-431C-8289-E6A94869E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8190-342C-4C73-B168-6A24F92D999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D10CD-4DF3-4A0C-A512-A63C69562F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FC475-87F5-4D0D-AFAB-DCE8787935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881D9-451D-4DF5-880F-948E9835A8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FF6C7-C79E-4C7A-869D-5C04A5DE97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9FB7B-90D2-45B9-8A82-4034C9DFE8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03E0E-BA42-4944-B399-F73157B1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CC55B-F0AB-42B6-ABE5-441F7FA4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EF98E-FD0C-4F1D-A2F3-49FF953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1BAC1-4ADD-4C3B-A041-4E2C15B5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F2DE7-C98B-40FB-8CC7-58EE668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BF1C-D2F3-4232-BC58-9CE68F161E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73F70-FDBE-4316-9AFF-20B380A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2954B-4AE2-4AC7-AEE3-8B14C30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5DC6C-F052-4898-89AD-DBE2748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3465E-2494-46D6-B67C-967411E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E39D2-7394-4594-9348-19B7AF14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4394D-75EF-4F56-A917-749F634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F5884-7073-42C3-85DC-DBF5C9FE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B2C83-117D-43D9-A019-6C3F58DC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5B30F-FA49-4188-9C6E-5EB4649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9D9A3-B8B6-4F65-AD45-C2829A9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Pro"/>
              </a:rPr>
              <a:t>SH Platform, 22 Jun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170-C981-4E6B-B6E5-0058FA358510}" type="slidenum">
              <a:rPr b="1" lang="en-GB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4DD-69CD-41DE-9C6F-C86DF00FDB9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93E-3732-4940-8E5F-C872A786BAD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CEBF-2C30-4EA4-BC30-67794854CEF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3E7C-5719-433C-B228-F2715A61BBA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A98-5EF0-4194-9D0F-3898309B9D9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4AD-6268-4DC5-903E-D317A4600A1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AEC-42A8-4FB5-B4E8-8436BA8CF0B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2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5FD5-6CF8-46BC-9D09-09A2E65619B3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4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C32-B458-4E09-8222-5A4F8EFC3283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5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9ED9-BD66-4E62-9BB2-D7A96F0032F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0D4-F145-44CD-AFDE-AC35D376C57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A086-DF7A-4005-A2AE-8AB190DB1E9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15A6-889F-4E77-83A8-E245E1C9DC2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AE86-5131-4CA9-816A-31678715F5C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C8CB-0FB0-4ACC-8B2D-976892FEF16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71DC-C6B8-4B39-ABED-E7CEE3B9426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B03-4CF8-47DA-84E1-E1BFAAE4BB9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D44-DA34-46FA-9B65-6A473D2265C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108-422C-4A8D-A208-F75DF35A8BA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1403-373E-4744-BCD2-8B445EDC6C7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ftr" idx="74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sldNum" idx="7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B7B-25DA-4814-85C7-2326B6C0E1D3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9E8-4ACC-4A55-B410-4FD843AD928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1145-585D-4D8A-B186-4939D066BCFE}" type="slidenum">
              <a:rPr b="1" lang="en-GB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5" descr="140259-EFSA_PPTemplate_v5-hom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487320" y="3686040"/>
            <a:ext cx="45975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de70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Subtitle or location, </a:t>
            </a:r>
            <a:fld id="{5AE706F4-98B9-4628-B08B-EC9A3ED4466A}" type="datetime"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07/31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481560" y="2339640"/>
            <a:ext cx="51019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1717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Main title 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space for a longer title on two or more 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D1B-E068-4B3F-8030-239C490CE3B2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BFB-388B-4B6C-96EB-739A5910CAB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96A-1671-470B-A38B-1B4033871C4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8DD-93D6-4FA4-AC4F-0D220B00181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589.htm" TargetMode="External"/><Relationship Id="rId2" Type="http://schemas.openxmlformats.org/officeDocument/2006/relationships/hyperlink" Target="http://www.efsa.europa.eu/en/efsajournal/pub/3471.htm" TargetMode="External"/><Relationship Id="rId3" Type="http://schemas.openxmlformats.org/officeDocument/2006/relationships/hyperlink" Target="http://www.efsa.europa.eu/en/efsajournal/pub/3472.htm" TargetMode="External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1532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Current trends and developments in the risk assessment of plant protection products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Mr Chris Lythgo</a:t>
            </a:r>
            <a:br>
              <a:rPr sz="20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esticides Unit</a:t>
            </a: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73120" y="5468760"/>
            <a:ext cx="8128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Myriad Pro"/>
              </a:rPr>
              <a:t>Visit of the Brazilian technical mission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ffffff"/>
                </a:solidFill>
                <a:latin typeface="Myriad Pro"/>
              </a:rPr>
              <a:t>EFSA, Parma 10 October 2014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4"/>
          <p:cNvSpPr/>
          <p:nvPr/>
        </p:nvSpPr>
        <p:spPr>
          <a:xfrm>
            <a:off x="4859280" y="1268280"/>
            <a:ext cx="403380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EW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rotected Crops: 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20 March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Estimation of soil DegT</a:t>
            </a:r>
            <a:r>
              <a:rPr b="1" lang="en-GB" sz="1400" spc="-1" strike="noStrike">
                <a:solidFill>
                  <a:srgbClr val="171796"/>
                </a:solidFill>
                <a:latin typeface="Verdana"/>
              </a:rPr>
              <a:t>50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in May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826920" y="4292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 Guidance on Risk assessment of Be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Republished in 2014 (ref date 2013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Has been re-structured  and complemented with a “Calculator” for facilitating its u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21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Improving guidance use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“Calculators” and Info Ses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36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991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Stakeholder involve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1E6-9AB4-47E2-80D1-C890CF83798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9" name="TextBox 7"/>
          <p:cNvSpPr/>
          <p:nvPr/>
        </p:nvSpPr>
        <p:spPr>
          <a:xfrm>
            <a:off x="4932360" y="1413000"/>
            <a:ext cx="3456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Public consultat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exposure for operators, workers, residents and bystand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Until 20 May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324000" y="4437000"/>
            <a:ext cx="3960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Info Sess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protected crops and soil degradation rat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17-18 Jun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Registration until 30 Apri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41" name="Picture 2" descr="https://dam.efsa.europa.eu/mediabin/PreviewImage.asp?type=4&amp;repoid=%7bA8594A13-106E-479C-A080-3BA76EE9FFE8%7d&amp;version=8&amp;validate=NLFPLGNSKJ&amp;md=2-25-201111-18-06AM"/>
          <p:cNvPicPr/>
          <p:nvPr/>
        </p:nvPicPr>
        <p:blipFill>
          <a:blip r:embed="rId1"/>
          <a:stretch/>
        </p:blipFill>
        <p:spPr>
          <a:xfrm>
            <a:off x="6875640" y="2781360"/>
            <a:ext cx="1626840" cy="10792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https://dam.efsa.europa.eu/mediabin/PreviewImage.asp?type=4&amp;repoid=%7bAB033EB3-5803-4C47-B6B7-7B294F55EC65%7d&amp;version=3&amp;validate=NLFPLGNSKJ&amp;md=4-20-20092-58-57PM"/>
          <p:cNvPicPr/>
          <p:nvPr/>
        </p:nvPicPr>
        <p:blipFill>
          <a:blip r:embed="rId2"/>
          <a:stretch/>
        </p:blipFill>
        <p:spPr>
          <a:xfrm>
            <a:off x="3564000" y="5445000"/>
            <a:ext cx="1452600" cy="9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0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79819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5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6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7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8" name="Straight Arrow Connector 18"/>
          <p:cNvCxnSpPr>
            <a:stCxn id="1246" idx="3"/>
            <a:endCxn id="1247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9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0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1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53" name="Straight Arrow Connector 24"/>
          <p:cNvCxnSpPr>
            <a:stCxn id="1251" idx="3"/>
            <a:endCxn id="1252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3" descr="European Dossier41"/>
          <p:cNvPicPr/>
          <p:nvPr/>
        </p:nvPicPr>
        <p:blipFill>
          <a:blip r:embed="rId1"/>
          <a:stretch/>
        </p:blipFill>
        <p:spPr>
          <a:xfrm>
            <a:off x="233280" y="2111400"/>
            <a:ext cx="1300320" cy="812880"/>
          </a:xfrm>
          <a:prstGeom prst="rect">
            <a:avLst/>
          </a:prstGeom>
          <a:ln w="9360">
            <a:solidFill>
              <a:srgbClr val="171796"/>
            </a:solidFill>
            <a:miter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6000" y="115920"/>
            <a:ext cx="79203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eer review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(legal framework Reg. (EC) No 1107/2009)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56" name="Immagine 3" descr="eu stati membri.png"/>
          <p:cNvPicPr/>
          <p:nvPr/>
        </p:nvPicPr>
        <p:blipFill>
          <a:blip r:embed="rId2"/>
          <a:srcRect l="2052" t="1326" r="2052" b="11559"/>
          <a:stretch/>
        </p:blipFill>
        <p:spPr>
          <a:xfrm>
            <a:off x="235080" y="3143160"/>
            <a:ext cx="1296720" cy="1160640"/>
          </a:xfrm>
          <a:prstGeom prst="rect">
            <a:avLst/>
          </a:prstGeom>
          <a:ln w="0">
            <a:noFill/>
          </a:ln>
        </p:spPr>
      </p:pic>
      <p:sp>
        <p:nvSpPr>
          <p:cNvPr id="1257" name="CasellaDiTesto 4"/>
          <p:cNvSpPr/>
          <p:nvPr/>
        </p:nvSpPr>
        <p:spPr>
          <a:xfrm>
            <a:off x="179280" y="1197000"/>
            <a:ext cx="1368360" cy="6426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Dossier submission 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8" name="CasellaDiTesto 5"/>
          <p:cNvSpPr/>
          <p:nvPr/>
        </p:nvSpPr>
        <p:spPr>
          <a:xfrm>
            <a:off x="1714680" y="5369040"/>
            <a:ext cx="1056960" cy="36828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EFSA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9" name="CasellaDiTesto 6"/>
          <p:cNvSpPr/>
          <p:nvPr/>
        </p:nvSpPr>
        <p:spPr>
          <a:xfrm>
            <a:off x="3147840" y="2116080"/>
            <a:ext cx="2000520" cy="18594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179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FSA, RapporteurMS, other MSs,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U Commission, Notifier, Public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grpSp>
        <p:nvGrpSpPr>
          <p:cNvPr id="1260" name="Group 31"/>
          <p:cNvGrpSpPr/>
          <p:nvPr/>
        </p:nvGrpSpPr>
        <p:grpSpPr>
          <a:xfrm>
            <a:off x="5686560" y="1531800"/>
            <a:ext cx="3133440" cy="2554920"/>
            <a:chOff x="5686560" y="1531800"/>
            <a:chExt cx="3133440" cy="2554920"/>
          </a:xfrm>
        </p:grpSpPr>
        <p:sp>
          <p:nvSpPr>
            <p:cNvPr id="1261" name="CasellaDiTesto 8"/>
            <p:cNvSpPr/>
            <p:nvPr/>
          </p:nvSpPr>
          <p:spPr>
            <a:xfrm>
              <a:off x="5707080" y="1531800"/>
              <a:ext cx="311292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1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mmenting phase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2" name="CasellaDiTesto 9"/>
            <p:cNvSpPr/>
            <p:nvPr/>
          </p:nvSpPr>
          <p:spPr>
            <a:xfrm>
              <a:off x="5692680" y="2249280"/>
              <a:ext cx="3127320" cy="70380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2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valuation of comments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3" name="CasellaDiTesto 10"/>
            <p:cNvSpPr/>
            <p:nvPr/>
          </p:nvSpPr>
          <p:spPr>
            <a:xfrm>
              <a:off x="5686560" y="3111480"/>
              <a:ext cx="313344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3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xpert’s consultat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4" name="CasellaDiTesto 11"/>
            <p:cNvSpPr/>
            <p:nvPr/>
          </p:nvSpPr>
          <p:spPr>
            <a:xfrm>
              <a:off x="5729400" y="3687840"/>
              <a:ext cx="309060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4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pic>
        <p:nvPicPr>
          <p:cNvPr id="1265" name="Picture 12" descr=""/>
          <p:cNvPicPr/>
          <p:nvPr/>
        </p:nvPicPr>
        <p:blipFill>
          <a:blip r:embed="rId3"/>
          <a:stretch/>
        </p:blipFill>
        <p:spPr>
          <a:xfrm>
            <a:off x="210960" y="4653000"/>
            <a:ext cx="1343160" cy="1893960"/>
          </a:xfrm>
          <a:prstGeom prst="rect">
            <a:avLst/>
          </a:prstGeom>
          <a:ln w="9360">
            <a:solidFill>
              <a:srgbClr val="5050e4"/>
            </a:solidFill>
            <a:miter/>
          </a:ln>
        </p:spPr>
      </p:pic>
      <p:cxnSp>
        <p:nvCxnSpPr>
          <p:cNvPr id="1266" name="Straight Arrow Connector 14"/>
          <p:cNvCxnSpPr/>
          <p:nvPr/>
        </p:nvCxnSpPr>
        <p:spPr>
          <a:xfrm flipH="1">
            <a:off x="882000" y="2923920"/>
            <a:ext cx="1080" cy="29124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67" name="Straight Arrow Connector 17"/>
          <p:cNvCxnSpPr/>
          <p:nvPr/>
        </p:nvCxnSpPr>
        <p:spPr>
          <a:xfrm flipH="1">
            <a:off x="882360" y="4303800"/>
            <a:ext cx="2160" cy="35136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sp>
        <p:nvSpPr>
          <p:cNvPr id="1268" name="CasellaDiTesto 4"/>
          <p:cNvSpPr/>
          <p:nvPr/>
        </p:nvSpPr>
        <p:spPr>
          <a:xfrm>
            <a:off x="395280" y="5661000"/>
            <a:ext cx="9748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DAR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Draf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Assessment Repor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69" name="Straight Arrow Connector 20"/>
          <p:cNvCxnSpPr>
            <a:endCxn id="1258" idx="1"/>
          </p:cNvCxnSpPr>
          <p:nvPr/>
        </p:nvCxnSpPr>
        <p:spPr>
          <a:xfrm>
            <a:off x="1554120" y="5600520"/>
            <a:ext cx="161280" cy="108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70" name="Elbow Connector 23"/>
          <p:cNvCxnSpPr>
            <a:stCxn id="1258" idx="3"/>
            <a:endCxn id="1259" idx="1"/>
          </p:cNvCxnSpPr>
          <p:nvPr/>
        </p:nvCxnSpPr>
        <p:spPr>
          <a:xfrm flipV="1">
            <a:off x="2771280" y="3053880"/>
            <a:ext cx="376920" cy="2547360"/>
          </a:xfrm>
          <a:prstGeom prst="bentConnector3">
            <a:avLst>
              <a:gd name="adj1" fmla="val 50000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1" name="Left Brace 25"/>
          <p:cNvSpPr/>
          <p:nvPr/>
        </p:nvSpPr>
        <p:spPr>
          <a:xfrm>
            <a:off x="5219640" y="15318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92360"/>
              <a:gd name="textAreaBottom" fmla="*/ 25830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9154"/>
                </a:lnTo>
                <a:cubicBezTo>
                  <a:pt x="10800" y="9279"/>
                  <a:pt x="5400" y="9404"/>
                  <a:pt x="0" y="9404"/>
                </a:cubicBezTo>
                <a:cubicBezTo>
                  <a:pt x="5400" y="9404"/>
                  <a:pt x="10800" y="9529"/>
                  <a:pt x="10800" y="9654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72" name="TextBox 26"/>
          <p:cNvSpPr/>
          <p:nvPr/>
        </p:nvSpPr>
        <p:spPr>
          <a:xfrm>
            <a:off x="5076720" y="4653000"/>
            <a:ext cx="3743280" cy="12830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ing Committee on the Food Chain and Animal Health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CoFCAH = EC +MSs)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73" name="Shape 28"/>
          <p:cNvCxnSpPr>
            <a:stCxn id="1264" idx="3"/>
            <a:endCxn id="1272" idx="3"/>
          </p:cNvCxnSpPr>
          <p:nvPr/>
        </p:nvCxnSpPr>
        <p:spPr>
          <a:xfrm>
            <a:off x="8819640" y="3917520"/>
            <a:ext cx="2520" cy="1428120"/>
          </a:xfrm>
          <a:prstGeom prst="bentConnector3">
            <a:avLst>
              <a:gd name="adj1" fmla="val 14383333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4" name="TextBox 66"/>
          <p:cNvSpPr/>
          <p:nvPr/>
        </p:nvSpPr>
        <p:spPr>
          <a:xfrm>
            <a:off x="5076720" y="6165720"/>
            <a:ext cx="3743280" cy="368280"/>
          </a:xfrm>
          <a:prstGeom prst="rect">
            <a:avLst/>
          </a:prstGeom>
          <a:solidFill>
            <a:srgbClr val="111171"/>
          </a:solidFill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al/Non Approva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ossier content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y dossier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mplete dossier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th full text of individual tests and study reports (studies involving deliberate administration to humans are not accepte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n line with the data requiremen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cientific peer-reviewed open literature over the last 10 years (active substance &amp; metabolites)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4260-8B16-426E-9FF2-0CA1D59CE140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Dossier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39640" y="11970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epresentative uses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ies and results of tests and studies for each data requirement 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Vertebrate studies: justification on steps for avoiding animal testing and du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hecklist demonstrating completenes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When relevant copy of an Maximum Residue Levels (MRL) applic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ssessment of the information submitted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indent="37008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7F10-3FC7-4F47-A12F-E3EAE609B6DE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9" descr=""/>
          <p:cNvPicPr/>
          <p:nvPr/>
        </p:nvPicPr>
        <p:blipFill>
          <a:blip r:embed="rId1"/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 Study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5F8D-9CAF-47E5-A862-95A9F71AB038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4" name="TextBox 18"/>
          <p:cNvSpPr/>
          <p:nvPr/>
        </p:nvSpPr>
        <p:spPr>
          <a:xfrm>
            <a:off x="539640" y="1484280"/>
            <a:ext cx="19447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MATERIALS &amp; METHOD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experimental conditions,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5" name="TextBox 19"/>
          <p:cNvSpPr/>
          <p:nvPr/>
        </p:nvSpPr>
        <p:spPr>
          <a:xfrm>
            <a:off x="2627280" y="2924280"/>
            <a:ext cx="1944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the relevant experimental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6" name="TextBox 20"/>
          <p:cNvSpPr/>
          <p:nvPr/>
        </p:nvSpPr>
        <p:spPr>
          <a:xfrm>
            <a:off x="5724360" y="1268280"/>
            <a:ext cx="230364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SUPPORTING INFORM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demonstrating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7" name="TextBox 21"/>
          <p:cNvSpPr/>
          <p:nvPr/>
        </p:nvSpPr>
        <p:spPr>
          <a:xfrm>
            <a:off x="5580000" y="3933720"/>
            <a:ext cx="302436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KEY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 allowing verific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8" name="TextBox 22"/>
          <p:cNvSpPr/>
          <p:nvPr/>
        </p:nvSpPr>
        <p:spPr>
          <a:xfrm>
            <a:off x="5940360" y="5877000"/>
            <a:ext cx="230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9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raft Assessment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ccffff">
              <a:alpha val="64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Presents the risk assessment outcome from the rapporteur Member State (RM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ncludes the summary study reports for each relevant study commented by the RM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Describes the risk assessment output and RMS comments for each endpoint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published by EFSA for comment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updated with new information if releva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88D-9E7C-43FE-98C4-DFFD928A4E69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EFSA Conclus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8000" y="112536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utput of a scientific peer review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dentity and Phys/Chem properti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ammalian Toxicology &amp; Workers/bystander/residents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s &amp; Consumer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cotoxicology &amp; Ecosystem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ducted by EFSA scientific staff and risk assessment experts from the Member St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e PPR Panel is not involved, except occasionally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24776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tretch/>
        </p:blipFill>
        <p:spPr>
          <a:xfrm>
            <a:off x="7596360" y="4365720"/>
            <a:ext cx="120780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7" name="Picture 4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016000" cy="282564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conclusions overview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94 conclusions published since 1 January 2013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New active substances Reg. 188/2011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Confirmatory data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rt 21 and amendments of approval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New elements for 2014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AIR II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new actives Reg. 1107/2009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0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454-01DB-4EE9-A424-7AD30AD1390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88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89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0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1" name="Straight Arrow Connector 18"/>
          <p:cNvCxnSpPr>
            <a:stCxn id="1189" idx="3"/>
            <a:endCxn id="1190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92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3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4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5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6" name="Straight Arrow Connector 24"/>
          <p:cNvCxnSpPr>
            <a:stCxn id="1194" idx="3"/>
            <a:endCxn id="1195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ecent and ongoing activiti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Selected examples:</a:t>
            </a:r>
            <a:endParaRPr b="0" lang="en-US" sz="36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General issu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sessment of Endocrine Disruptor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pecific mand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isk of neonicotinoids and fipronil to be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vised assessment of chlorpyrifo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icrobi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F2C0-7270-4E07-B9BB-AC1A34C7F25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ndocrine effec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opinion of EFSA Scientific Committee opinion published in 2013, the assessment will focus on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four axes with available tests: oestrogen, androgen, thyroid or steroidogenesis (EAT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identification of additional concerns from relevant apical studies, information from the literature search, or other information sourc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6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E7E-D5F5-4418-B510-DE864CA9DC2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2D44-18B9-4B7A-BB13-60BD8112584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08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34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yriad Pro"/>
              </a:rPr>
              <a:t>EFSA Conclusions risk for Bees </a:t>
            </a:r>
            <a:r>
              <a:rPr b="0" lang="fr-FR" sz="2800" spc="-1" strike="noStrike">
                <a:solidFill>
                  <a:srgbClr val="ffffff"/>
                </a:solidFill>
                <a:latin typeface="Myriad Pro"/>
              </a:rPr>
              <a:t>(seed treatments, soil applications)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C47-B6B1-477A-98AE-92280FB7447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590560" cy="370692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2" name="Picture 4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2610000" cy="3673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3" name="Picture 5" descr=""/>
          <p:cNvPicPr/>
          <p:nvPr/>
        </p:nvPicPr>
        <p:blipFill>
          <a:blip r:embed="rId3"/>
          <a:stretch/>
        </p:blipFill>
        <p:spPr>
          <a:xfrm>
            <a:off x="2556000" y="1773360"/>
            <a:ext cx="2566800" cy="3646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sp>
        <p:nvSpPr>
          <p:cNvPr id="1314" name="TextBox 10"/>
          <p:cNvSpPr/>
          <p:nvPr/>
        </p:nvSpPr>
        <p:spPr>
          <a:xfrm>
            <a:off x="324000" y="5732640"/>
            <a:ext cx="6298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Neonicotinoids: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 Published 16 January 2013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ipronil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: Published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27 May 2013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5" name="Picture 5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2567160" cy="364680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2122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Resul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2E4-03AA-4264-AB12-E89B781FF0E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79280" y="1628640"/>
          <a:ext cx="6264360" cy="5094360"/>
        </p:xfrm>
        <a:graphic>
          <a:graphicData uri="http://schemas.openxmlformats.org/drawingml/2006/table">
            <a:tbl>
              <a:tblPr/>
              <a:tblGrid>
                <a:gridCol w="1728720"/>
                <a:gridCol w="1403640"/>
                <a:gridCol w="1566720"/>
                <a:gridCol w="1565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UST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Pollen and Necta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Guttati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Clothianidi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Imidaclopri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Sunflower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Thiamethoxam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Fipronil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</a:tbl>
          </a:graphicData>
        </a:graphic>
      </p:graphicFrame>
      <p:sp>
        <p:nvSpPr>
          <p:cNvPr id="1319" name="Rectangle 4"/>
          <p:cNvSpPr/>
          <p:nvPr/>
        </p:nvSpPr>
        <p:spPr>
          <a:xfrm>
            <a:off x="6588000" y="2492280"/>
            <a:ext cx="216072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9a9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For many of the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authorised use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and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several aspects of the risk assessments 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not enough data were available to finalise the evaluation or data were not sufficien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179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 identified (acute risk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933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50920" y="1915920"/>
            <a:ext cx="8748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In June 2013, EFSA received a mandate to review the risk assessment for the PPPs applied as foliar spray, containing thiamethoxam, clothianidin and imidacloprid;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rom February to May 2014, EFSA conducted a peer review of study protocol submitted by the companies;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EFSA may be requested by the EC to review the new information. 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Chlorpyrifo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Conclusion on the peer review of the pesticide human health risk assessment of the active substance chlorpyrifo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ublished on 22 April 2014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Based on the use of the Red Blood Cell cholinesterase inhibition to derive the reference valu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is approach was endorsed by the PPR Panel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roposes new ADI and AOEL of 0.001 mg/kg bw per day, and an ARfD of 0.005 mg/kg bw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commends to set two separate residue definitions and to perform two separate consumer risk assessments, for chlorpyrifos and TCP respectively </a:t>
            </a:r>
            <a:r>
              <a:rPr b="0" lang="en-GB" sz="2400" spc="-1" strike="noStrike">
                <a:solidFill>
                  <a:srgbClr val="17179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MRL setting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bial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Active substance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’: 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substances, including micro-organism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having general or specific action against harmful organisms or on plants, parts of plants or plant products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substances’: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hemical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 elements and thei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ompound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as they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occur naturally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by manufacture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including impurities from the manufacturing process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micro-organism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’: microbiological entity, including lower fungi and viruses, cellular or non-cellular,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apable of replication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of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transferring genetic material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isk assessment for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pproval criteria for “active substances” (e.g. Annex II Reg. 1107/2009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Uniform principles (e.g. Reg. 546/2011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1. Chemical plant protection produc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2. plant protection products containing micro-organism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ata requirements (e.g. Reg. 283/2013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A. Chemic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B. Microorganisms including virus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26B5-2D77-470A-A423-A52ECE386D4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0" name="Rounded Rectangle 5"/>
          <p:cNvSpPr/>
          <p:nvPr/>
        </p:nvSpPr>
        <p:spPr>
          <a:xfrm>
            <a:off x="611280" y="5373720"/>
            <a:ext cx="4321080" cy="129528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Chemic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Semiochemical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Microbial toxin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Inert microorganism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1" name="Rounded Rectangle 6"/>
          <p:cNvSpPr/>
          <p:nvPr/>
        </p:nvSpPr>
        <p:spPr>
          <a:xfrm>
            <a:off x="5292720" y="5373720"/>
            <a:ext cx="3311640" cy="136836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Microbi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32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564000" y="5445000"/>
            <a:ext cx="1233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organism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Bacillus pumilus strain QST 2808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ield and greenhouse spraying ap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Streptomyces lydicus WYEC 108: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high volume drench, via drip irrigation systems, seed treat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Zucchini yellow mosaic virus - weak strain (ZYMV-WK) applications by jet injec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36" name="TextBox 5"/>
          <p:cNvSpPr/>
          <p:nvPr/>
        </p:nvSpPr>
        <p:spPr>
          <a:xfrm>
            <a:off x="288720" y="126828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Conclusions cover different taxa and application rout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Panel expertise 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wenty-one independent scientific experts, covering: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Chemical active substance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icrobiological active substanc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Physical-chemical properties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ethods of analysi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oxicology and regulatory 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Non dietary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Dietary exposure and risk assessment of pesticides residues in food and feed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y and population dynamic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ical/Environmental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.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9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28CE-7FFC-4523-B52C-6EF3EC77AC4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0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20000" y="1341360"/>
            <a:ext cx="21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ain basis for the conclu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0920" y="1413000"/>
            <a:ext cx="88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id not cause signs of toxicity, infectivity and pathogenicity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ue to lack of data on the potential production of toxins/metabolites of concern risk assessment cannot be finalised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24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otential risk of infecting and producing adverse effects in animal hosts and humans is low.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isk (effects and transmission) for non-target plants could not be finalise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3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395280" y="0"/>
            <a:ext cx="842472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Data gaps / issues identified in EFS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sticide conclusions on microorganisms: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hods for identify the strai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Interferenc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on prescribed methods of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analysis for pathogens in drinking water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Relationship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lack of) to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known pathoge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ompetitiveness / multiplicatio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ransfer of genetic information to other speci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primary concern plasmids between bacteria specie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apacity for producing metabolit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including other strains of the species, conditions of production.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Production and levels of metabolites in environmental compartme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Ecotoxicity studi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too short to conclude lack of pathogenicity or infectivity to non target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395280" y="260280"/>
            <a:ext cx="849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er reviewed scientific literatur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Systematic review of the available literatur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for the organism strain and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abolit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that the strain or species might produce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following the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May cover other strains of the same or related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When evidence is cited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he paper should be included in the dossier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41" name="Straight Arrow Connector 10"/>
          <p:cNvCxnSpPr>
            <a:endCxn id="1342" idx="1"/>
          </p:cNvCxnSpPr>
          <p:nvPr/>
        </p:nvCxnSpPr>
        <p:spPr>
          <a:xfrm flipV="1">
            <a:off x="2123640" y="5748120"/>
            <a:ext cx="5256720" cy="57600"/>
          </a:xfrm>
          <a:prstGeom prst="straightConnector1">
            <a:avLst/>
          </a:prstGeom>
          <a:ln w="76320">
            <a:solidFill>
              <a:srgbClr val="171796"/>
            </a:solidFill>
            <a:miter/>
            <a:tailEnd len="med" type="triangle" w="med"/>
          </a:ln>
        </p:spPr>
      </p:cxnSp>
      <p:pic>
        <p:nvPicPr>
          <p:cNvPr id="1343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2484360" y="48690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780000" y="551664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" descr="https://dam.efsa.europa.eu/mediabin/PreviewImage.asp?type=4&amp;repoid=%7bFC0615E1-6E08-4091-A6D9-C9955B9124EE%7d&amp;version=5&amp;validate=NLFPLGNSKJ&amp;md=11-29-20125-35-47PM"/>
          <p:cNvPicPr/>
          <p:nvPr/>
        </p:nvPicPr>
        <p:blipFill>
          <a:blip r:embed="rId3"/>
          <a:stretch/>
        </p:blipFill>
        <p:spPr>
          <a:xfrm>
            <a:off x="395280" y="5013360"/>
            <a:ext cx="1725480" cy="1152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https://dam.efsa.europa.eu/mediabin/PreviewImage.asp?type=4&amp;repoid=%7bFC706DC2-41FD-4DD0-830B-4E750A2B7E9C%7d&amp;version=1&amp;validate=NLFPLGNSKJ&amp;md=12-6-20132-31-33PM"/>
          <p:cNvPicPr/>
          <p:nvPr/>
        </p:nvPicPr>
        <p:blipFill>
          <a:blip r:embed="rId4"/>
          <a:stretch/>
        </p:blipFill>
        <p:spPr>
          <a:xfrm>
            <a:off x="5435640" y="4581360"/>
            <a:ext cx="1341360" cy="2006640"/>
          </a:xfrm>
          <a:prstGeom prst="rect">
            <a:avLst/>
          </a:prstGeom>
          <a:ln w="0">
            <a:noFill/>
          </a:ln>
        </p:spPr>
      </p:pic>
      <p:sp>
        <p:nvSpPr>
          <p:cNvPr id="1347" name="TextBox 11"/>
          <p:cNvSpPr/>
          <p:nvPr/>
        </p:nvSpPr>
        <p:spPr>
          <a:xfrm>
            <a:off x="553320" y="6165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5691240" y="4724280"/>
            <a:ext cx="872640" cy="459720"/>
          </a:xfrm>
          <a:prstGeom prst="rect">
            <a:avLst/>
          </a:prstGeom>
          <a:solidFill>
            <a:srgbClr val="fb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AT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9" name="TextBox 11"/>
          <p:cNvSpPr/>
          <p:nvPr/>
        </p:nvSpPr>
        <p:spPr>
          <a:xfrm>
            <a:off x="241128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0" name="TextBox 12"/>
          <p:cNvSpPr/>
          <p:nvPr/>
        </p:nvSpPr>
        <p:spPr>
          <a:xfrm>
            <a:off x="370836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1" name="TextBox 13"/>
          <p:cNvSpPr/>
          <p:nvPr/>
        </p:nvSpPr>
        <p:spPr>
          <a:xfrm>
            <a:off x="543564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52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5"/>
          <a:stretch/>
        </p:blipFill>
        <p:spPr>
          <a:xfrm rot="1999200">
            <a:off x="5579640" y="567072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342" name="TextBox 15"/>
          <p:cNvSpPr/>
          <p:nvPr/>
        </p:nvSpPr>
        <p:spPr>
          <a:xfrm>
            <a:off x="7494480" y="5516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9339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MRL reasoned opinions included in EFSA Conclusions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33520" y="1428840"/>
            <a:ext cx="8324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New Conclusion and LOEP template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ll be as a stand-alone document containing </a:t>
            </a: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also the information needed to provide the reasoned EFSA opinion on MRL proposals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.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MRL applications on import tolerances should not be assessed as long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 the documentation corresponding national legislation of the exporting country as not been submitted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active substance effectively registered in the exporting country, and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MRL published in the national legislation of the exporting country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6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57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8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9" name="Straight Arrow Connector 18"/>
          <p:cNvCxnSpPr>
            <a:stCxn id="1357" idx="3"/>
            <a:endCxn id="1358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60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1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2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3" name="TextBox 23"/>
          <p:cNvSpPr/>
          <p:nvPr/>
        </p:nvSpPr>
        <p:spPr>
          <a:xfrm>
            <a:off x="4572000" y="3573360"/>
            <a:ext cx="3600360" cy="11912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Provides Conclusions for single active substances to support the EU decision-mak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64" name="Straight Arrow Connector 24"/>
          <p:cNvCxnSpPr>
            <a:stCxn id="1362" idx="3"/>
            <a:endCxn id="1363" idx="1"/>
          </p:cNvCxnSpPr>
          <p:nvPr/>
        </p:nvCxnSpPr>
        <p:spPr>
          <a:xfrm flipV="1">
            <a:off x="3777840" y="4172760"/>
            <a:ext cx="7945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322-5BAD-48D2-9807-211BB62E3D0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U MRL legislat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Myriad Pro"/>
              </a:rPr>
              <a:t>Regulation (EC) No 396/2005 of the European Parliament and of the Council on maximum residue levels in or on food and feed of plant and animal origin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rocedure for MRL setting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Official control of MRL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Definition of responsibilities (role of Member States, European Commission, European Food Safety Authority, manufacturer of pesticides, food business operator, etc.)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Annexes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: List of commodities for which MRLs are established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I and Annex III: List of MRL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V: Active substances exempted from setting MRL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: specific LOQ value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I: processing factor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Basic regulation: </a:t>
            </a:r>
            <a:br>
              <a:rPr sz="1400"/>
            </a:b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http://eur-lex.europa.eu/LexUriServ/LexUriServ.do?uri=OJ:L:2005:070:0001:0016:EN:PDF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MRL reasoned opin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50 RO/year reviewing MRLs for approved/non-approved active substances (Art 12 RO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60-70 RO/year new proposals and modifications of existing MR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urther details in a later present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Procedure for MRL setting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28400" y="1357200"/>
            <a:ext cx="85359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itiated by PPP applicants, growers, importers, food producers, MSs,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cludes a dossier with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GAP (Good Agricultural Practice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 data package (Annex II, chapter 6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oxicological data package (if no EU ADI/ARf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nalytical methods for monitoring/enforcement of MRL in the relevant crop (Annex II, chapter 4.2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Rapporteur MS produces an Evaluation Repor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FSA scientific staff assess the information and conduct a consumers risk assess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6134040" y="447840"/>
            <a:ext cx="250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73" name="TextBox 5"/>
          <p:cNvSpPr/>
          <p:nvPr/>
        </p:nvSpPr>
        <p:spPr>
          <a:xfrm>
            <a:off x="4304880" y="33577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1796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Oval 11"/>
          <p:cNvGrpSpPr/>
          <p:nvPr/>
        </p:nvGrpSpPr>
        <p:grpSpPr>
          <a:xfrm>
            <a:off x="2639880" y="225360"/>
            <a:ext cx="3973680" cy="2262240"/>
            <a:chOff x="2639880" y="225360"/>
            <a:chExt cx="3973680" cy="2262240"/>
          </a:xfrm>
        </p:grpSpPr>
        <p:pic>
          <p:nvPicPr>
            <p:cNvPr id="1202" name="Oval 11" descr=""/>
            <p:cNvPicPr/>
            <p:nvPr/>
          </p:nvPicPr>
          <p:blipFill>
            <a:blip r:embed="rId1"/>
            <a:stretch/>
          </p:blipFill>
          <p:spPr>
            <a:xfrm>
              <a:off x="2639880" y="225360"/>
              <a:ext cx="39736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3265560" y="574560"/>
              <a:ext cx="2727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grpSp>
        <p:nvGrpSpPr>
          <p:cNvPr id="1204" name="Oval 7"/>
          <p:cNvGrpSpPr/>
          <p:nvPr/>
        </p:nvGrpSpPr>
        <p:grpSpPr>
          <a:xfrm>
            <a:off x="731880" y="2548080"/>
            <a:ext cx="7759800" cy="4329000"/>
            <a:chOff x="731880" y="2548080"/>
            <a:chExt cx="7759800" cy="4329000"/>
          </a:xfrm>
        </p:grpSpPr>
        <p:pic>
          <p:nvPicPr>
            <p:cNvPr id="1205" name="Oval 7" descr=""/>
            <p:cNvPicPr/>
            <p:nvPr/>
          </p:nvPicPr>
          <p:blipFill>
            <a:blip r:embed="rId2"/>
            <a:stretch/>
          </p:blipFill>
          <p:spPr>
            <a:xfrm>
              <a:off x="731880" y="2548080"/>
              <a:ext cx="77598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1886040" y="3198960"/>
              <a:ext cx="54547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sp>
        <p:nvSpPr>
          <p:cNvPr id="1207" name="Slide Number Placeholder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74EC-44D8-4207-AB33-A364CF066230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8" name="Diagram 2" descr=""/>
          <p:cNvPicPr/>
          <p:nvPr/>
        </p:nvPicPr>
        <p:blipFill>
          <a:blip r:embed="rId3"/>
          <a:stretch/>
        </p:blipFill>
        <p:spPr>
          <a:xfrm>
            <a:off x="603360" y="1407960"/>
            <a:ext cx="8076960" cy="5053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Documents and Settings\reichhe\Local Settings\Temporary Internet Files\Content.IE5\IWDBSYJ6\MC900384206[1].wmf"/>
          <p:cNvPicPr/>
          <p:nvPr/>
        </p:nvPicPr>
        <p:blipFill>
          <a:blip r:embed="rId4"/>
          <a:stretch/>
        </p:blipFill>
        <p:spPr>
          <a:xfrm>
            <a:off x="3286080" y="1428840"/>
            <a:ext cx="1300320" cy="181296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9"/>
          <p:cNvSpPr/>
          <p:nvPr/>
        </p:nvSpPr>
        <p:spPr>
          <a:xfrm>
            <a:off x="2843280" y="1125360"/>
            <a:ext cx="32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Opinions &amp; 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1" name="TextBox 10"/>
          <p:cNvSpPr/>
          <p:nvPr/>
        </p:nvSpPr>
        <p:spPr>
          <a:xfrm>
            <a:off x="2627280" y="551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ientific staff working with Member States exper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2" name="TextBox 12"/>
          <p:cNvSpPr/>
          <p:nvPr/>
        </p:nvSpPr>
        <p:spPr>
          <a:xfrm>
            <a:off x="2987640" y="692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PPR Panel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142920" y="142920"/>
            <a:ext cx="793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"/>
              </a:rPr>
              <a:t>Pesticides Unit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50920" y="148428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1"/>
              </a:rPr>
              <a:t> Good modelling practice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7 March 2014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2"/>
              </a:rPr>
              <a:t> Developmental neurotoxicity potential of acetamiprid and imidacloprid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7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3"/>
              </a:rPr>
              <a:t> Relevance of dissimilar mode of action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3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 on tiered risk assessment for edge-of-field surface water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8 July 2013 Guidance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Cumulative Assessment Groups for Pesticide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2 Jul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High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8 June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Low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7 Februar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utputs 2013- 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3"/>
          <p:cNvSpPr/>
          <p:nvPr/>
        </p:nvSpPr>
        <p:spPr>
          <a:xfrm>
            <a:off x="250920" y="1268280"/>
            <a:ext cx="8569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arthropod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in-soil risk assessment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-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terrestrial pla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mphibians and reptil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on the FERA guidance proposal “Guidance on how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ged sorption studies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r pesticides should be conducted, analysed and used in regulatory assessments” (FERA, 2012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ngoing opinion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icture 14"/>
          <p:cNvSpPr/>
          <p:nvPr/>
        </p:nvSpPr>
        <p:spPr>
          <a:xfrm rot="5400000">
            <a:off x="5615640" y="2258280"/>
            <a:ext cx="27003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179280" y="148428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Myriad Pro"/>
              </a:rPr>
              <a:t>Development of a guidance document : typical sequence of event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dentification of a need / Drafting of a mandat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llection of dat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pinion of the PPR Panel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stablishment of a Working Group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reparation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sultations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doption (or approval) of the Guidanc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ntry into forc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0" name="Picture 4"/>
          <p:cNvSpPr/>
          <p:nvPr/>
        </p:nvSpPr>
        <p:spPr>
          <a:xfrm>
            <a:off x="5214960" y="3429000"/>
            <a:ext cx="345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and 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23" name="TextBox 7"/>
          <p:cNvSpPr/>
          <p:nvPr/>
        </p:nvSpPr>
        <p:spPr>
          <a:xfrm>
            <a:off x="2627280" y="1773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Scientific opinions: as starting point for further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24" name="Elbow Connector 9"/>
          <p:cNvCxnSpPr/>
          <p:nvPr/>
        </p:nvCxnSpPr>
        <p:spPr>
          <a:xfrm>
            <a:off x="2556000" y="3429000"/>
            <a:ext cx="3745440" cy="1440360"/>
          </a:xfrm>
          <a:prstGeom prst="bentConnector3">
            <a:avLst>
              <a:gd name="adj1" fmla="val 58858"/>
            </a:avLst>
          </a:prstGeom>
          <a:ln w="76320">
            <a:solidFill>
              <a:srgbClr val="5050e4"/>
            </a:solidFill>
            <a:round/>
            <a:tailEnd len="med" type="triangle" w="med"/>
          </a:ln>
        </p:spPr>
      </p:cxnSp>
      <p:cxnSp>
        <p:nvCxnSpPr>
          <p:cNvPr id="1225" name="Straight Arrow Connector 13"/>
          <p:cNvCxnSpPr/>
          <p:nvPr/>
        </p:nvCxnSpPr>
        <p:spPr>
          <a:xfrm flipH="1">
            <a:off x="3131640" y="4868640"/>
            <a:ext cx="1728000" cy="1080"/>
          </a:xfrm>
          <a:prstGeom prst="straightConnector1">
            <a:avLst/>
          </a:prstGeom>
          <a:ln w="7632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226" name="TextBox 17"/>
          <p:cNvSpPr/>
          <p:nvPr/>
        </p:nvSpPr>
        <p:spPr>
          <a:xfrm>
            <a:off x="3101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PR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4829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28" name="Picture 1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202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rotection goal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3640" y="1557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regulatory frame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pproval criteria, data requirements, uniform principl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31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49D-8660-44BE-ABD1-BBE81A4F692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68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43:13Z</dcterms:created>
  <dc:creator>Geert Deveuster</dc:creator>
  <dc:description/>
  <cp:keywords/>
  <dc:language>en-US</dc:language>
  <cp:lastModifiedBy>Lythgo</cp:lastModifiedBy>
  <cp:lastPrinted>1904-01-01T00:00:00Z</cp:lastPrinted>
  <dcterms:modified xsi:type="dcterms:W3CDTF">2014-10-10T06:40:59Z</dcterms:modified>
  <cp:revision>1072</cp:revision>
  <dc:subject/>
  <dc:title>PowerPoint Presentation</dc:title>
</cp:coreProperties>
</file>